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wmf" ContentType="image/x-wmf"/>
  <Override PartName="/ppt/media/image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wmf" ContentType="image/x-wmf"/>
  <Override PartName="/ppt/media/image4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91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250920" y="92160"/>
            <a:ext cx="3744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rebuchet MS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rebuchet MS"/>
              </a:rPr>
              <a:t>Depto. Ingeniería Eléct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rebuchet MS"/>
              </a:rPr>
              <a:t>Área de 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85840" y="6442200"/>
            <a:ext cx="8605800" cy="0"/>
          </a:xfrm>
          <a:prstGeom prst="line">
            <a:avLst/>
          </a:prstGeom>
          <a:ln w="475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8200" y="915840"/>
            <a:ext cx="8605800" cy="0"/>
          </a:xfrm>
          <a:prstGeom prst="line">
            <a:avLst/>
          </a:prstGeom>
          <a:ln w="475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48360" y="6442200"/>
            <a:ext cx="24116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rebuchet MS"/>
              </a:rPr>
              <a:t>EL605 2007     Prof.: Agustín León 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rebuchet MS"/>
              </a:rPr>
              <a:t>       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Trebuchet MS"/>
              </a:rPr>
              <a:t>Aux.: Ricardo Fuentes 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125360"/>
            <a:ext cx="86421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66ff"/>
                </a:solidFill>
                <a:uFillTx/>
                <a:latin typeface="Trebuchet MS"/>
              </a:rPr>
              <a:t>AUXILIAR 5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Requerimiento de reactivos de una estación conversora HV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Proceso de Conmu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59640" y="5481720"/>
            <a:ext cx="195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Fuente: Siemens</a:t>
            </a: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620800" y="2276640"/>
          <a:ext cx="4038840" cy="35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0" y="2276640"/>
                    <a:ext cx="4038840" cy="35096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49520" y="5937120"/>
            <a:ext cx="4038480" cy="87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573960" y="6553080"/>
            <a:ext cx="195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Fuente: CEPEL</a:t>
            </a: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4957920" cy="309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aphicFrame>
        <p:nvGraphicFramePr>
          <p:cNvPr id="74" name=""/>
          <p:cNvGraphicFramePr/>
          <p:nvPr/>
        </p:nvGraphicFramePr>
        <p:xfrm>
          <a:off x="5867280" y="1268280"/>
          <a:ext cx="3095640" cy="24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268280"/>
                    <a:ext cx="3095640" cy="245772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50920" y="1387440"/>
            <a:ext cx="524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n el diseño de las S/E Conversora se planifica que los reactivos consumidos por el proceso de conmutación sea cubierto por equipos de compensación propios de la S/E Conversora, y no “absorver” reactivos de la red 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1341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Aspectos técnicos considerados en el diseño de compensación reactiva de las S/E Convers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421000"/>
            <a:ext cx="813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Balance de reactivos en régimen perman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Análisis de frecuencia de reson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Sobretensión a frecuencia funda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studios de auto-exci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176720" cy="408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51" name=""/>
          <p:cNvGrpSpPr/>
          <p:nvPr/>
        </p:nvGrpSpPr>
        <p:grpSpPr>
          <a:xfrm>
            <a:off x="4643280" y="1700280"/>
            <a:ext cx="4243680" cy="4536360"/>
            <a:chOff x="4643280" y="1700280"/>
            <a:chExt cx="4243680" cy="4536360"/>
          </a:xfrm>
        </p:grpSpPr>
        <p:sp>
          <p:nvSpPr>
            <p:cNvPr id="52" name=""/>
            <p:cNvSpPr/>
            <p:nvPr/>
          </p:nvSpPr>
          <p:spPr>
            <a:xfrm>
              <a:off x="5606280" y="4547880"/>
              <a:ext cx="249408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4643280" y="1700280"/>
              <a:ext cx="4243680" cy="4081320"/>
              <a:chOff x="4643280" y="1700280"/>
              <a:chExt cx="4243680" cy="4081320"/>
            </a:xfrm>
          </p:grpSpPr>
          <p:pic>
            <p:nvPicPr>
              <p:cNvPr id="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1700280"/>
                <a:ext cx="4243680" cy="408132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</p:grpSp>
        <p:sp>
          <p:nvSpPr>
            <p:cNvPr id="55" name=""/>
            <p:cNvSpPr/>
            <p:nvPr/>
          </p:nvSpPr>
          <p:spPr>
            <a:xfrm>
              <a:off x="6513840" y="4547880"/>
              <a:ext cx="2372760" cy="16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9320" y="1146240"/>
            <a:ext cx="35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Requerimiento de Re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07000" y="5792760"/>
            <a:ext cx="328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2565360"/>
            <a:ext cx="4427640" cy="3745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321080" cy="36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249800" cy="301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16280" y="3429000"/>
            <a:ext cx="4203720" cy="324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4200" y="1557360"/>
            <a:ext cx="7489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2600" y="1146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62080" y="1512720"/>
            <a:ext cx="5246640" cy="253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025720" y="4149720"/>
            <a:ext cx="5283000" cy="23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57400" y="114624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Conversor de 12 Pul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484360" y="2065320"/>
          <a:ext cx="40482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5320"/>
                    <a:ext cx="4048200" cy="25160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54080" y="114624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Formulas para Calcular el requerimiento de rea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1268280"/>
            <a:ext cx="84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Si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 = 15° y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=20° =&gt; tan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 =0.49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Q=0.4932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24040"/>
            <a:ext cx="8424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n condiciones normales de operación, una S/E Conversora absorbe potencia reactiva del orden del 50% de la potencia activa transmit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l consumo de potencia reactiva varia “casi” linealmente con la potencia reactiva consum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Q rectificador es prácticamente igual al Q inver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30200" y="1557360"/>
            <a:ext cx="626616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5:55:58Z</dcterms:created>
  <dc:creator>rifuente</dc:creator>
  <dc:description/>
  <dc:language>en-US</dc:language>
  <cp:lastModifiedBy>RFuentes</cp:lastModifiedBy>
  <dcterms:modified xsi:type="dcterms:W3CDTF">2007-10-26T18:34:37Z</dcterms:modified>
  <cp:revision>143</cp:revision>
  <dc:subject/>
  <dc:title>Diapositiva 1</dc:title>
</cp:coreProperties>
</file>